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61B-5D53-4A5B-BD34-A84475FC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A627-28C1-4DA4-8847-3635DF36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8E9-A5BB-4C03-8E43-88C363AC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EEC-5E32-45B3-8C01-6F3D30A6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7B2F-9251-47EA-8B4D-B015F9A2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DF5E-E16D-4A92-AC59-11D7BD42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7BFD-745B-4D78-A636-F85EA46D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ABBC-FA78-46CC-A124-BFE6762D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24C5-EB69-49EC-A791-DEBA317E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B352-F959-44DF-8AFB-1C995258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638C-1AAD-43EC-A574-C929E864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8606-A048-4830-9682-6AF47C2A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B24E-3D0D-41A8-AA75-9E20B080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9A52-942D-4CD8-9F50-C94D6B6D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9377-EA49-4083-8267-4D74E7DD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647C-A18E-4DCB-95B6-16DAC765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3BCC-BE49-459D-ACF6-F8B7A530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E69-4960-40B5-9507-1DCC1C80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181-C472-4EF8-9B77-3DF99097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105-F3DF-4309-B474-647C1E95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3273-229C-40FE-B654-D5A2A73A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16E-76E8-4065-B1DB-F1CFFD26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6544-4C07-4917-870A-37F1985F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2404-57B9-45ED-BF28-2809F7B9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C757-BEAC-41C4-A62E-8825D5F7CBB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6190-8B20-4840-A2CE-7F207E3D761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VIS MONI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722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 can use these logics to build up knowledge of individual object properties and object pairs (like overtakin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is fine, but there are drawback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examine all objects without considering whether they are relevant to the behaviours we want to detect (e.g. vehicles passing in the backgroun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can only recognise the behaviours after they have taken place. This is OK for an off-line analysis system (post-event analysis) but not useful for a “live” system where we want to be able to detect behaviours as they emerge (for control and predictio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VIS WATCH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722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HIVIS WATCHER, a set of (computationally low-cost) Visual Routines are used to generate pre-attentive obje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high level Control Policy is used to select objects that warrant attention (attentive selection) - In this case, mutual proximity of objects. This control policy determines a “watch” parameter (how useful are these objects to watch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ictic (“pointing”) markers are assigned to selected objects. Behaviour primitives (“episodes”) are formed by applying BBN rules on objects referenced by the mark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VIS WATCHER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Deictic (“pointing”) referenc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419360" y="2615760"/>
            <a:ext cx="4343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-attentive selection assigns markers to objects that warrant atten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r each object, we determine information about the relative position, speed and heading of the ob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BNs are then used to combine data into likely episo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Image1" descr=""/>
          <p:cNvPicPr/>
          <p:nvPr/>
        </p:nvPicPr>
        <p:blipFill>
          <a:blip r:embed="rId1"/>
          <a:stretch/>
        </p:blipFill>
        <p:spPr>
          <a:xfrm>
            <a:off x="1422360" y="2384280"/>
            <a:ext cx="2703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VIS WATCHER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bining spatial relationships into episod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59" name="Image2" descr=""/>
          <p:cNvPicPr/>
          <p:nvPr/>
        </p:nvPicPr>
        <p:blipFill>
          <a:blip r:embed="rId1"/>
          <a:stretch/>
        </p:blipFill>
        <p:spPr>
          <a:xfrm>
            <a:off x="884160" y="2685960"/>
            <a:ext cx="8110440" cy="41086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782280" y="2362320"/>
            <a:ext cx="740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ime   pairs  watch        agents      s o deictic state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vertake    follow      queue   unknown    episod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ynamic Bayesian Netwo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call from previous lectures that BBNs have Conditional Probability tables for each no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s static approach can be extended to reflect the fact that external factors can influence the BBN (structure and CPT values) in a manner that may not be convenient to model by adding additional nodes to the network, resulting in a DB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o, using HIVIS as an example, knowledge of the likely episode at time t influences our belief in the likely episode at time t+1 (like a Markov assumption). Such an assumption can help us, for example, to maintain temporal continu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ynamic Decision Networ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85960" y="2523600"/>
            <a:ext cx="79531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DNs are similar in concept, but include the notion of utility U of an action resulting from a decision 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895400" y="3751200"/>
          <a:ext cx="5410440" cy="1185840"/>
        </p:xfrm>
        <a:graphic>
          <a:graphicData uri="http://schemas.openxmlformats.org/drawingml/2006/table">
            <a:tbl>
              <a:tblPr/>
              <a:tblGrid>
                <a:gridCol w="2210040"/>
                <a:gridCol w="1523880"/>
                <a:gridCol w="1676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3366"/>
                      </a:solidFill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Rain)=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Sunny=0.7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alk to work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 w="1368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rive to work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33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735200" y="5257800"/>
                <a:ext cx="60562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al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iv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Graphical representation of DBNs and DD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8" name="bat1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960960" cy="2676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944240" y="5246640"/>
            <a:ext cx="394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Reproduced from Forbes/Huang/Kanazawa/Russell 199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00520" y="5634000"/>
            <a:ext cx="7511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Decisions D are made by some agent (cf. to-down control) and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inform the state evolution process. When “looking ahead”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imes New Roman"/>
              </a:rPr>
              <a:t>we use Utility U to evaluate the cost associated of being in a state</a:t>
            </a:r>
            <a:endParaRPr b="0" lang="en-US" sz="2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yes Automated Taxi (BAT)</a:t>
            </a:r>
            <a:br>
              <a:rPr sz="3600"/>
            </a:br>
            <a:r>
              <a:rPr b="1" lang="en-GB" sz="1800" spc="-1" strike="noStrike">
                <a:solidFill>
                  <a:srgbClr val="006666"/>
                </a:solidFill>
                <a:latin typeface="Arial"/>
              </a:rPr>
              <a:t>Forbes, Huang, Kanazawa and Russell 1995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722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Forbes et al was concerned with autonomous vehicles for driving on a normal (unadapted) highway using vi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eveloped a driving simulator for the BATmobile to test DDN based decision making modu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se a set of high-level decision tree structures to decide which actions to pursue 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4" name="bat3" descr=""/>
          <p:cNvPicPr/>
          <p:nvPr/>
        </p:nvPicPr>
        <p:blipFill>
          <a:blip r:embed="rId1"/>
          <a:stretch/>
        </p:blipFill>
        <p:spPr>
          <a:xfrm>
            <a:off x="3962520" y="4572000"/>
            <a:ext cx="3809880" cy="20750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942360" y="6539040"/>
            <a:ext cx="394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Reproduced from Forbes/Huang/Kanazawa/Russell 199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yes Automated Taxi (BAT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78" name="bat2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4226040" cy="4329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053000" y="6567480"/>
            <a:ext cx="394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Reproduced from Forbes/Huang/Kanazawa/Russell 199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29200" y="2747520"/>
            <a:ext cx="3821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a part of the probabilistic network for one vehic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aller nodes with thicker outlines are sensor observ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ayes Automated Taxi (BAT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3" name=""/>
          <p:cNvSpPr/>
          <p:nvPr/>
        </p:nvSpPr>
        <p:spPr>
          <a:xfrm>
            <a:off x="1121400" y="5816520"/>
            <a:ext cx="394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3366"/>
                </a:solidFill>
                <a:latin typeface="Times New Roman"/>
              </a:rPr>
              <a:t>Reproduced from Forbes/Huang/Kanazawa/Russell 1995</a:t>
            </a:r>
            <a:endParaRPr b="0" lang="en-US" sz="13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4" name="bat4" descr=""/>
          <p:cNvPicPr/>
          <p:nvPr/>
        </p:nvPicPr>
        <p:blipFill>
          <a:blip r:embed="rId1"/>
          <a:stretch/>
        </p:blipFill>
        <p:spPr>
          <a:xfrm>
            <a:off x="1143000" y="2819520"/>
            <a:ext cx="3733920" cy="3093840"/>
          </a:xfrm>
          <a:prstGeom prst="rect">
            <a:avLst/>
          </a:prstGeom>
          <a:ln w="0">
            <a:noFill/>
          </a:ln>
        </p:spPr>
      </p:pic>
      <p:pic>
        <p:nvPicPr>
          <p:cNvPr id="285" name="bat5" descr=""/>
          <p:cNvPicPr/>
          <p:nvPr/>
        </p:nvPicPr>
        <p:blipFill>
          <a:blip r:embed="rId2"/>
          <a:stretch/>
        </p:blipFill>
        <p:spPr>
          <a:xfrm>
            <a:off x="5029200" y="2819520"/>
            <a:ext cx="3797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9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cognising visual behavio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ottom-up and top-down vi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HIVIS (case stud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ynamic Bayesian Networ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ynamic Decision Networ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ayes Automated Taxi (case stud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this lecture we shall see how some of the techniques we have seen thus far can be used to build real Cognitive Vision Syst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rther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ceptual descriptions from monitoring and watching image sequences”, R. J. Howarth and H. Buxton, Image and Vision Computing 18, 20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BATmobile: Towards a Bayesian Automated Taxi”, J. Forbes, T. Huang, K, Kanazawa, S. Russell, 199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ual behaviour recognition involves modelling the spatial and temporal structures of scales in terms of obj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top-down or task-driven approach has many advantages in computational ter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ynamic Bayesian Nets and Dynamic Decision Nets are useful formalisms for real-world applic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sk based visual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ual behavi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42760" y="25686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 computational terms, visual behaviour can be defined as a functional description of the spatial and/or temporal dynamics of a visual object or set of objects in an enviro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unctional description may be characterised by, for examp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imple” tabular fo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t of visual prototypes (facial models …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tatistical models (HMMs, VLMMs …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cognising visual behaviour means finding the fit between the model and observation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ual behavi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47880" y="2633760"/>
            <a:ext cx="4419360" cy="3314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9640" y="3254400"/>
            <a:ext cx="366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© Johnson &amp; Hog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Green circles indicate match with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a “normal” trajectory. Red circl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indicate “unusual” behaviou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isual behavi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74600" y="5821200"/>
            <a:ext cx="317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toy example due to Frey &amp; Jojic involving changing structure over tim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105520" y="2666880"/>
            <a:ext cx="3581280" cy="2957760"/>
            <a:chOff x="5105520" y="2666880"/>
            <a:chExt cx="3581280" cy="2957760"/>
          </a:xfrm>
        </p:grpSpPr>
        <p:sp>
          <p:nvSpPr>
            <p:cNvPr id="105" name=""/>
            <p:cNvSpPr/>
            <p:nvPr/>
          </p:nvSpPr>
          <p:spPr>
            <a:xfrm rot="5400000">
              <a:off x="5230800" y="505440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5586480" y="535932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5586480" y="52070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00000">
              <a:off x="5586480" y="505440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5408640" y="505440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5230800" y="535932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5230800" y="52070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0800000">
              <a:off x="5560920" y="441972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0800000">
              <a:off x="5256000" y="47750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800000">
              <a:off x="5408640" y="47750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0800000">
              <a:off x="5560920" y="47750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5560920" y="4597200"/>
              <a:ext cx="15228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5256000" y="441972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0800000">
              <a:off x="5408640" y="441972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5586480" y="41396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5230800" y="38354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5230800" y="398736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5230800" y="41396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5408640" y="41396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5586480" y="38354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5586480" y="398736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257800" y="355752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62720" y="32018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0440" y="32018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57800" y="32018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57800" y="337968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62720" y="355752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0440" y="355752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8050320" y="26924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8405640" y="2997360"/>
              <a:ext cx="15228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8405640" y="2845080"/>
              <a:ext cx="15228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8405280" y="2692440"/>
              <a:ext cx="15264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8228160" y="26924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5400000">
              <a:off x="8050320" y="299700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8050320" y="284472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800000">
              <a:off x="7694640" y="266688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0800000">
              <a:off x="7389720" y="302256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0800000">
              <a:off x="7542000" y="302256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7694640" y="302256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0800000">
              <a:off x="7694640" y="284472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7389720" y="266688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00000">
              <a:off x="7542000" y="266688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3024360"/>
              <a:ext cx="15228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24840" y="266868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266868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266868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19920" y="284652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24840" y="3024360"/>
              <a:ext cx="15228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72200" y="3024360"/>
              <a:ext cx="15264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25040" y="4952880"/>
              <a:ext cx="7365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0.75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39240" y="4984920"/>
              <a:ext cx="711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27880" y="4984920"/>
              <a:ext cx="711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6880" y="4984920"/>
              <a:ext cx="711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0.25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05520" y="4984920"/>
              <a:ext cx="7113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50240" y="4390920"/>
              <a:ext cx="7365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0.25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39240" y="4390920"/>
              <a:ext cx="71100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0.75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3440" y="4343400"/>
              <a:ext cx="7110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816880" y="4390920"/>
              <a:ext cx="71100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05520" y="4390920"/>
              <a:ext cx="7113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5040" y="3733920"/>
              <a:ext cx="7365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39240" y="3765600"/>
              <a:ext cx="711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0.25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27880" y="3765600"/>
              <a:ext cx="711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0.75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16880" y="3765600"/>
              <a:ext cx="7110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05520" y="3765600"/>
              <a:ext cx="7113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950240" y="3201840"/>
              <a:ext cx="7365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9240" y="3201840"/>
              <a:ext cx="7110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53440" y="3200400"/>
              <a:ext cx="71100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0.25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16880" y="3201840"/>
              <a:ext cx="71100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0.75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05520" y="3201840"/>
              <a:ext cx="711360" cy="5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50240" y="2668680"/>
              <a:ext cx="736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39240" y="2668680"/>
              <a:ext cx="711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27880" y="2668680"/>
              <a:ext cx="711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16880" y="2668680"/>
              <a:ext cx="7110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5520" y="2668680"/>
              <a:ext cx="711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5520" y="2668680"/>
              <a:ext cx="358128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05520" y="3201840"/>
              <a:ext cx="35812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05520" y="3765600"/>
              <a:ext cx="35812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05520" y="4390920"/>
              <a:ext cx="35812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05520" y="4984920"/>
              <a:ext cx="35812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05520" y="5624640"/>
              <a:ext cx="358128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05520" y="2668680"/>
              <a:ext cx="0" cy="295596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16880" y="2668680"/>
              <a:ext cx="0" cy="29559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27880" y="2668680"/>
              <a:ext cx="0" cy="29559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239240" y="2668680"/>
              <a:ext cx="0" cy="29559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50240" y="2668680"/>
              <a:ext cx="0" cy="29559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86800" y="2668680"/>
              <a:ext cx="0" cy="295596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7034400" y="2997000"/>
              <a:ext cx="15228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6678720" y="2692440"/>
              <a:ext cx="15264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6678720" y="284436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6678720" y="29966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6856560" y="2996640"/>
              <a:ext cx="152280" cy="17784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00000">
              <a:off x="7034040" y="2692440"/>
              <a:ext cx="15264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7034400" y="2844720"/>
              <a:ext cx="152280" cy="177480"/>
            </a:xfrm>
            <a:prstGeom prst="rect">
              <a:avLst/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424760" y="5753160"/>
            <a:ext cx="465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+ PacMan moves forward at each time step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ith probability 0.8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30178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ttom-up / top-down vision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A generalised view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38560" y="2313000"/>
            <a:ext cx="1890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cene Interpret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560600" y="2554200"/>
            <a:ext cx="5686200" cy="4187880"/>
            <a:chOff x="1560600" y="2554200"/>
            <a:chExt cx="5686200" cy="4187880"/>
          </a:xfrm>
        </p:grpSpPr>
        <p:sp>
          <p:nvSpPr>
            <p:cNvPr id="203" name=""/>
            <p:cNvSpPr/>
            <p:nvPr/>
          </p:nvSpPr>
          <p:spPr>
            <a:xfrm>
              <a:off x="2505240" y="3084480"/>
              <a:ext cx="0" cy="29368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64040" y="5156280"/>
              <a:ext cx="5396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76920" y="5156280"/>
              <a:ext cx="540000" cy="3664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16560" y="6012000"/>
              <a:ext cx="676080" cy="36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192640" y="6012000"/>
              <a:ext cx="13356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6200" y="6012000"/>
              <a:ext cx="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5192280" y="6256440"/>
              <a:ext cx="133560" cy="1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41920" y="3932280"/>
              <a:ext cx="2700000" cy="611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41920" y="3075120"/>
              <a:ext cx="2700000" cy="6127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35480" y="5522760"/>
              <a:ext cx="1350720" cy="489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05480" y="5670720"/>
              <a:ext cx="272880" cy="29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056200" y="5522400"/>
              <a:ext cx="1890720" cy="48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435480" y="4543560"/>
              <a:ext cx="5396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571920" y="4543560"/>
              <a:ext cx="5396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516560" y="4543560"/>
              <a:ext cx="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51200" y="4543560"/>
              <a:ext cx="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6001920" y="4543560"/>
              <a:ext cx="8096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6136920" y="4543560"/>
              <a:ext cx="809640" cy="61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21200" y="368784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26200" y="368784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056200" y="2830320"/>
              <a:ext cx="0" cy="2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95960" y="5126040"/>
              <a:ext cx="9446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……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44880" y="3143160"/>
              <a:ext cx="24321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CONTROL POLICY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(WITH STATE MEMORY)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40360" y="3995640"/>
              <a:ext cx="202536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FEATUR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COMBINATION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25960" y="5183280"/>
              <a:ext cx="479160" cy="4618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49800" y="5170320"/>
              <a:ext cx="541440" cy="48924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7160" y="5168880"/>
              <a:ext cx="5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r>
                <a:rPr b="1" lang="en-US" sz="1600" spc="-1" strike="noStrike" baseline="-25000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2880" y="2554200"/>
              <a:ext cx="161928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Image Data Drive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60600" y="6006960"/>
              <a:ext cx="189072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ask Based Control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512880" y="5646600"/>
              <a:ext cx="132084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: traffic surveillance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HIVIS (Buxton and Howarth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35" name="buxton_gong_9503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4419720" cy="43956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46720" y="2522160"/>
            <a:ext cx="3751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task is to identify traffic behaviours (such as overta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magery taken from a roundabout in Germa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uxton and Howarth took two different approach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VIS MONITOR (bottom-u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VIS WATCHER (with top-down contro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VIS MONI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39" name=""/>
          <p:cNvGraphicFramePr/>
          <p:nvPr/>
        </p:nvGraphicFramePr>
        <p:xfrm>
          <a:off x="895320" y="2435400"/>
          <a:ext cx="4952880" cy="3624120"/>
        </p:xfrm>
        <a:graphic>
          <a:graphicData uri="http://schemas.openxmlformats.org/drawingml/2006/table">
            <a:tbl>
              <a:tblPr/>
              <a:tblGrid>
                <a:gridCol w="1905120"/>
                <a:gridCol w="380880"/>
                <a:gridCol w="380880"/>
                <a:gridCol w="381240"/>
                <a:gridCol w="380880"/>
                <a:gridCol w="380880"/>
                <a:gridCol w="400320"/>
                <a:gridCol w="361800"/>
                <a:gridCol w="38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road-surfac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</a:tr>
              <a:tr h="1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entry-road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ary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t orientation change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right-turn-region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-roundabout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2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2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2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2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2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2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2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2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0" name="BGCrop1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2430720" cy="2438280"/>
          </a:xfrm>
          <a:prstGeom prst="rect">
            <a:avLst/>
          </a:prstGeom>
          <a:ln w="0">
            <a:noFill/>
          </a:ln>
        </p:spPr>
      </p:pic>
      <p:pic>
        <p:nvPicPr>
          <p:cNvPr id="241" name="BGCrop2" descr=""/>
          <p:cNvPicPr/>
          <p:nvPr/>
        </p:nvPicPr>
        <p:blipFill>
          <a:blip r:embed="rId2"/>
          <a:stretch/>
        </p:blipFill>
        <p:spPr>
          <a:xfrm>
            <a:off x="6095880" y="3962520"/>
            <a:ext cx="242568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005840" y="6129360"/>
            <a:ext cx="452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pace is divided into regions (see right) s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e can specify relationships on objec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IVIS MONITO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42760" y="2568240"/>
            <a:ext cx="7691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spatial relationship primitives  were then used to build a set of activity primitives using a temporal logic e.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133720" y="4191120"/>
                <a:ext cx="4343400" cy="21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UE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OUNDABOU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NTR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TRU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OAD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URFACE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TRU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NTR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OA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TRU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OUNDABOU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0:31:27Z</dcterms:created>
  <dc:creator>Sage</dc:creator>
  <dc:description/>
  <dc:language>en-US</dc:language>
  <cp:lastModifiedBy>Sage</cp:lastModifiedBy>
  <dcterms:modified xsi:type="dcterms:W3CDTF">2005-03-24T14:55:09Z</dcterms:modified>
  <cp:revision>82</cp:revision>
  <dc:subject/>
  <dc:title>Markov Models</dc:title>
</cp:coreProperties>
</file>